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1AF-C3B0-49E3-9588-282795F6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E1E-78C7-40DD-B25C-8521C442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0FC-5D31-4C11-B5B6-080B4A42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260-7FF0-4DD2-B1B3-88F3A89A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09BE-4C84-4ACB-8BDE-45B12F18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0060-BA75-4A8F-BA74-B2418B9F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77B4-4924-4974-8E10-FEEF5B3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F534-70BA-4FDD-8FD8-73683B6B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3079-E38F-4BFF-9422-DEDF224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64D4-37F1-464B-AD10-CD519A59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8F43-D525-417E-8340-D9A4054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C43-79E7-41C1-B5ED-C58108C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3DB2-3B31-4020-ADF6-107C1A89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9AB7-F517-4198-9BC5-ADB83B32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5319-C2DF-45D2-8687-1FF58FD1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1490-5C3F-46AD-8AB2-B5C7AF05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A2D3-DED4-4A18-94A8-A6EB145B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525-620E-4739-B5B2-C93F41C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9DF-CC9C-4287-842B-42CC1A31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D9F-B691-4676-8E0A-D1FC62E6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088-9A0E-475D-88C9-AD1BF503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941-B93A-45B0-9DCB-90CC8E87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6B5-DC64-49FF-906A-98C6BC7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BBD-EB2A-40A5-99B8-891EECB9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767D-0230-4ECA-99F0-F5F76A2D4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B55-AF65-49E6-ABFB-C4008B3C2B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Me llamo __________ Clase 6NH</a:t>
            </a:r>
            <a:br>
              <a:rPr sz="4000"/>
            </a:b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La fecha es el 26 de marzo del 2012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Propósito # 48:</a:t>
            </a: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uál es tu comida favori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Tienes una casa o un apartamen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uántos cuartos tiene en tu ca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uáles son los cuartos de tu ca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uál es tu cuarto favorito? ¿Por qué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686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paso del Vocabulario de la comida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343400" y="2514600"/>
            <a:ext cx="2695680" cy="20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867280" y="988920"/>
            <a:ext cx="2743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El desayu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638680" y="2285640"/>
            <a:ext cx="0" cy="76212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2880" y="175248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hue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53080" y="2819520"/>
            <a:ext cx="68580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3657600"/>
            <a:ext cx="9907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191120" y="3962520"/>
            <a:ext cx="91440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86600" y="236232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(tosta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010280" y="3427560"/>
            <a:ext cx="21337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lchic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124080" y="365760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oc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897120" cy="129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752480" y="256212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80880" y="51814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133720" y="502920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1373040" cy="1657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5791320" y="51814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6477120" y="4952880"/>
            <a:ext cx="2286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5000" y="457056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mantequ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7620120" y="4648320"/>
            <a:ext cx="99216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791320" y="632304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nqu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543800" y="6246720"/>
            <a:ext cx="1143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Arial"/>
              </a:rPr>
              <a:t>si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91120" y="6248520"/>
            <a:ext cx="1295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v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09680" y="624672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6019920"/>
            <a:ext cx="609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905120" y="4343400"/>
            <a:ext cx="914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f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419112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Ju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de naran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0" y="855720"/>
            <a:ext cx="1905120" cy="1353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066680" y="213372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2057400" y="114300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276720" y="2057400"/>
            <a:ext cx="1218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jam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l almuer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1523880" cy="1320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0000" y="16765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630520" y="1600200"/>
            <a:ext cx="1103400" cy="1371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57200" y="404820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2362320" y="38862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7238880" y="312408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6324480" y="4800600"/>
            <a:ext cx="89532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5900760" y="990720"/>
            <a:ext cx="1719360" cy="1231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5181480" y="3733920"/>
            <a:ext cx="900360" cy="1419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52280" y="304812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mburgu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666880" y="297180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r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0" y="3122640"/>
            <a:ext cx="12193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543800" y="1598760"/>
            <a:ext cx="16765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á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934320" y="2133720"/>
            <a:ext cx="22096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mpare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172200" y="25131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ocad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924680" y="99072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5638680"/>
            <a:ext cx="15238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sa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971800" y="5865840"/>
            <a:ext cx="1066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81480" y="5105520"/>
            <a:ext cx="10670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c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24480" y="639936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315200" y="4646520"/>
            <a:ext cx="1676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aseo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391520" y="5103720"/>
            <a:ext cx="1218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315200" y="548496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fres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La c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857600" cy="1533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1549440" cy="1724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191120" y="167652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98520" y="4419720"/>
            <a:ext cx="150660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2209680" y="398160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4114800" y="4191120"/>
            <a:ext cx="1482840" cy="1600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3274920"/>
            <a:ext cx="9907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ll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62320" y="3427560"/>
            <a:ext cx="2438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istec/ bift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257800" y="3427560"/>
            <a:ext cx="1523880" cy="6109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s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086600" y="31989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aró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7086600" y="1447920"/>
            <a:ext cx="1905120" cy="1743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228600" y="6094440"/>
            <a:ext cx="17524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hulet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62320" y="5865840"/>
            <a:ext cx="1904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egeta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419720" y="586728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5715000" y="4067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7315200" y="4280040"/>
            <a:ext cx="1828800" cy="1306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5867280" y="5713560"/>
            <a:ext cx="1371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543800" y="556092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rij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162920" y="6018120"/>
            <a:ext cx="198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bichue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0"/>
          <a:stretch/>
        </p:blipFill>
        <p:spPr>
          <a:xfrm>
            <a:off x="2743200" y="4986360"/>
            <a:ext cx="1295280" cy="957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2362320" y="6246720"/>
            <a:ext cx="1904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gumbr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486400" y="1905120"/>
            <a:ext cx="1752480" cy="30456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248160" y="1523880"/>
            <a:ext cx="75960" cy="53352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29200" y="1143000"/>
            <a:ext cx="2209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Los maris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90720" y="4114800"/>
            <a:ext cx="304560" cy="45720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3352680"/>
            <a:ext cx="152280" cy="38124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980720" y="3429000"/>
            <a:ext cx="381240" cy="30492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480" y="3732120"/>
            <a:ext cx="190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ff"/>
                </a:solidFill>
                <a:latin typeface="Arial"/>
              </a:rPr>
              <a:t>Las car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paso del Vocabulari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7200" y="150480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743200" y="2016000"/>
            <a:ext cx="2238480" cy="1489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248520" y="161928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2209680" y="44956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048120" y="914400"/>
            <a:ext cx="2743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El po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880" y="3657600"/>
            <a:ext cx="190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hocolate ca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505320" y="358128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81480" y="3429000"/>
            <a:ext cx="12956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s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77120" y="3886200"/>
            <a:ext cx="1828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izco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848720" y="342900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666880" y="4114800"/>
            <a:ext cx="1676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he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523520" y="51055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6095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029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4875120"/>
            <a:ext cx="17524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895480" y="6399360"/>
            <a:ext cx="1295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i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410080" y="4800600"/>
            <a:ext cx="12956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6629400" y="4648320"/>
            <a:ext cx="2286000" cy="1209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315200" y="5942160"/>
            <a:ext cx="1295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area # 48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jercicio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. R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EXAMEN # 5 SIGNED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52:41Z</dcterms:created>
  <dc:creator>Helen Zumaeta</dc:creator>
  <dc:description/>
  <dc:language>en-US</dc:language>
  <cp:lastModifiedBy>Helen Zumaeta</cp:lastModifiedBy>
  <dcterms:modified xsi:type="dcterms:W3CDTF">2012-03-26T13:50:37Z</dcterms:modified>
  <cp:revision>4</cp:revision>
  <dc:subject/>
  <dc:title>Me llamo __________ Clase 6NH La fecha es el 26 de marzo del 2012</dc:title>
</cp:coreProperties>
</file>